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9A64C-0BED-4F17-8B91-743AC81A2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B03E5-0501-41DC-AE9C-2B2B1A460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CAFBD-E281-462C-8DB7-4788B8E3C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E782D-785A-4C45-AFDB-8F481EBF3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4DFC8-4116-49AF-B1D5-436E72163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A2154-3401-4DEF-9A83-5CA28F077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832ED-1737-4E5A-8891-CEA08F87B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BEAFB-87A7-44FD-8E22-FB99D4E02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87C7B-5B2B-4C18-B7BB-FDD90C618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CDD36-8944-40D5-8295-CADA36E61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357ED-3D25-4B88-BB6B-9425C23B9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6D884-3E8C-473B-A090-65C96B93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6A913-5502-413F-9BCF-391624618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D0B5-15F1-41D9-94E7-44F3C9517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F3BED-70C3-4C64-8F92-915CE3F53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A1A4E-C6EB-426F-B3D1-524EDC37A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DCCC1-D362-431D-B872-E32526B00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6B625-E176-41C6-BDA1-9A6EEE820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71806-8801-496A-AA6A-20E0BA970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F3CD8-AE97-46CA-AE51-D0ED76A5C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91FAE-6274-4875-B0DB-6F78E73A3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9599-DCE8-49A8-8834-0D638BA8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9DF41-E2D7-4DE9-8FE9-F9D44F0E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50544-1B65-4EC8-B451-0F2F42FF4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9345-4486-4609-95FC-282D0F3D12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CA64-1CF7-4BAA-B592-AAAF8C8CF2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1066320"/>
            <a:ext cx="6553440" cy="22100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Arial Rounded MT Bold"/>
              </a:rPr>
              <a:t>ERCOT Update to RMS on the IDR Requirement Transition Project</a:t>
            </a:r>
            <a:endParaRPr b="0" lang="en-US" sz="4000" spc="-1" strike="noStrike">
              <a:solidFill>
                <a:srgbClr val="330033"/>
              </a:solidFill>
              <a:latin typeface="Times New Roman"/>
            </a:endParaRPr>
          </a:p>
        </p:txBody>
      </p:sp>
      <p:sp>
        <p:nvSpPr>
          <p:cNvPr id="98" name="PlaceHolder 2"/>
          <p:cNvSpPr>
            <a:spLocks noGrp="1"/>
          </p:cNvSpPr>
          <p:nvPr>
            <p:ph type="subTitle"/>
          </p:nvPr>
        </p:nvSpPr>
        <p:spPr>
          <a:xfrm>
            <a:off x="1981080" y="3886200"/>
            <a:ext cx="580896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arl Raish</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ERCOT Load Profiling</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May 10, 2006</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00" name="" descr=""/>
          <p:cNvPicPr/>
          <p:nvPr/>
        </p:nvPicPr>
        <p:blipFill>
          <a:blip r:embed="rId1"/>
          <a:stretch/>
        </p:blipFill>
        <p:spPr>
          <a:xfrm>
            <a:off x="762120" y="1752480"/>
            <a:ext cx="8153280" cy="3800520"/>
          </a:xfrm>
          <a:prstGeom prst="rect">
            <a:avLst/>
          </a:prstGeom>
          <a:ln w="0">
            <a:noFill/>
          </a:ln>
        </p:spPr>
      </p:pic>
      <p:sp>
        <p:nvSpPr>
          <p:cNvPr id="101" name="PlaceHolder 2"/>
          <p:cNvSpPr>
            <a:spLocks noGrp="1"/>
          </p:cNvSpPr>
          <p:nvPr>
            <p:ph/>
          </p:nvPr>
        </p:nvSpPr>
        <p:spPr>
          <a:xfrm>
            <a:off x="228600" y="5562360"/>
            <a:ext cx="990720" cy="228600"/>
          </a:xfrm>
          <a:prstGeom prst="rect">
            <a:avLst/>
          </a:prstGeom>
          <a:noFill/>
          <a:ln w="0">
            <a:noFill/>
          </a:ln>
        </p:spPr>
        <p:txBody>
          <a:bodyPr lIns="90000" rIns="90000" tIns="46800" bIns="46800" anchor="t">
            <a:normAutofit fontScale="7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a:t>
            </a:r>
            <a:endParaRPr b="0" lang="en-US" sz="1400" spc="-1" strike="noStrike">
              <a:solidFill>
                <a:srgbClr val="000000"/>
              </a:solidFill>
              <a:latin typeface="Arial"/>
            </a:endParaRPr>
          </a:p>
        </p:txBody>
      </p:sp>
      <p:sp>
        <p:nvSpPr>
          <p:cNvPr id="102" name=""/>
          <p:cNvSpPr/>
          <p:nvPr/>
        </p:nvSpPr>
        <p:spPr>
          <a:xfrm>
            <a:off x="106668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3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may be a substantial delay between the installation of an IDR and ERCOT’s records showing that an IDR has been installed.</a:t>
            </a:r>
            <a:endParaRPr b="0" lang="en-US" sz="1200" spc="-1" strike="noStrike">
              <a:solidFill>
                <a:srgbClr val="000000"/>
              </a:solidFill>
              <a:latin typeface="Arial"/>
            </a:endParaRPr>
          </a:p>
          <a:p>
            <a:pPr marL="533520" indent="-533520">
              <a:lnSpc>
                <a:spcPct val="80000"/>
              </a:lnSpc>
              <a:spcBef>
                <a:spcPts val="3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 ESI ID is listed as overdue if it was on the report prior to January.  Of the ESI IDs added to the report in January 20 are not IDR in ERCOT systems as of 05/03/2006.</a:t>
            </a:r>
            <a:endParaRPr b="0" lang="en-US" sz="1200" spc="-1" strike="noStrike">
              <a:solidFill>
                <a:srgbClr val="000000"/>
              </a:solidFill>
              <a:latin typeface="Arial"/>
            </a:endParaRPr>
          </a:p>
          <a:p>
            <a:pPr marL="533520" indent="-533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752480"/>
            <a:ext cx="8077320" cy="3657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rom RMG 7.13.2.2, Mandatory IDR Installation Process</a:t>
            </a:r>
            <a:endParaRPr b="0" lang="en-US" sz="22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3)</a:t>
            </a:r>
            <a:r>
              <a:rPr b="0" lang="en-US" sz="2200" spc="-1" strike="noStrike">
                <a:solidFill>
                  <a:srgbClr val="000000"/>
                </a:solidFill>
                <a:latin typeface="Arial Rounded MT Bold"/>
              </a:rPr>
              <a:t>	</a:t>
            </a:r>
            <a:r>
              <a:rPr b="0" lang="en-US" sz="2200" spc="-1" strike="noStrike">
                <a:solidFill>
                  <a:srgbClr val="000000"/>
                </a:solidFill>
                <a:latin typeface="Arial Rounded MT Bold"/>
              </a:rPr>
              <a:t>If after one hundred twenty (120) days of the ESI ID appearing on the report the TDSP has not received notification of either a dispute of an IDR requirement or an ESI ID qualifying for optional removal as identified in proceeding paragraph, the TDSP may proceed with the IDR installation only after providing notification to the CR of the TDSP’s intent to perform the installation...</a:t>
            </a:r>
            <a:endParaRPr b="0" lang="en-US" sz="2200" spc="-1" strike="noStrike">
              <a:solidFill>
                <a:srgbClr val="000000"/>
              </a:solidFill>
              <a:latin typeface="Arial"/>
            </a:endParaRPr>
          </a:p>
        </p:txBody>
      </p:sp>
      <p:sp>
        <p:nvSpPr>
          <p:cNvPr id="104"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Rounded MT Bold"/>
              </a:rPr>
              <a:t>IDR Requirement Report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Optional Removal</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6" name="PlaceHolder 2"/>
          <p:cNvSpPr>
            <a:spLocks noGrp="1"/>
          </p:cNvSpPr>
          <p:nvPr>
            <p:ph/>
          </p:nvPr>
        </p:nvSpPr>
        <p:spPr>
          <a:xfrm>
            <a:off x="914400" y="2209320"/>
            <a:ext cx="77724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of May 2, 2006 one TDSP reported having received a total of two IDR removal requests; both have been remov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DSPs have been requested to submit updates on any additional removal requests to ERCO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SI IDs that have been on the list for 120 days or more are flagged as ‘Overdue’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1:08:05Z</dcterms:created>
  <dc:creator> </dc:creator>
  <dc:description/>
  <dc:language>en-US</dc:language>
  <cp:lastModifiedBy>ERCOT</cp:lastModifiedBy>
  <dcterms:modified xsi:type="dcterms:W3CDTF">2006-05-03T21:41:48Z</dcterms:modified>
  <cp:revision>67</cp:revision>
  <dc:subject/>
  <dc:title>IDR Taskforce Report to RMS</dc:title>
</cp:coreProperties>
</file>